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82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8600" indent="-22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9680" indent="-22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3200" y="415800"/>
            <a:ext cx="6051600" cy="8382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235240" y="1606680"/>
            <a:ext cx="2568240" cy="3159000"/>
            <a:chOff x="2235240" y="1606680"/>
            <a:chExt cx="2568240" cy="3159000"/>
          </a:xfrm>
        </p:grpSpPr>
        <p:grpSp>
          <p:nvGrpSpPr>
            <p:cNvPr id="40" name=""/>
            <p:cNvGrpSpPr/>
            <p:nvPr/>
          </p:nvGrpSpPr>
          <p:grpSpPr>
            <a:xfrm>
              <a:off x="2235240" y="1606680"/>
              <a:ext cx="2477880" cy="3049920"/>
              <a:chOff x="2235240" y="1606680"/>
              <a:chExt cx="2477880" cy="3049920"/>
            </a:xfrm>
          </p:grpSpPr>
          <p:sp>
            <p:nvSpPr>
              <p:cNvPr id="41" name=""/>
              <p:cNvSpPr/>
              <p:nvPr/>
            </p:nvSpPr>
            <p:spPr>
              <a:xfrm>
                <a:off x="2235240" y="1606680"/>
                <a:ext cx="2477880" cy="304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4392360" y="3580200"/>
                <a:ext cx="291600" cy="446760"/>
                <a:chOff x="4392360" y="3580200"/>
                <a:chExt cx="291600" cy="44676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392360" y="3580200"/>
                  <a:ext cx="291600" cy="44676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4392360" y="3580200"/>
                  <a:ext cx="291600" cy="44676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2587680" y="1655280"/>
                <a:ext cx="1804320" cy="2549520"/>
              </a:xfrm>
              <a:custGeom>
                <a:avLst/>
                <a:gdLst/>
                <a:ahLst/>
                <a:rect l="l" t="t" r="r" b="b"/>
                <a:pathLst>
                  <a:path w="1299" h="1779">
                    <a:moveTo>
                      <a:pt x="0" y="0"/>
                    </a:moveTo>
                    <a:lnTo>
                      <a:pt x="1299" y="0"/>
                    </a:lnTo>
                    <a:lnTo>
                      <a:pt x="1299" y="1511"/>
                    </a:lnTo>
                    <a:lnTo>
                      <a:pt x="1286" y="1541"/>
                    </a:lnTo>
                    <a:lnTo>
                      <a:pt x="1260" y="1569"/>
                    </a:lnTo>
                    <a:lnTo>
                      <a:pt x="1233" y="1595"/>
                    </a:lnTo>
                    <a:lnTo>
                      <a:pt x="1199" y="1617"/>
                    </a:lnTo>
                    <a:lnTo>
                      <a:pt x="1167" y="1628"/>
                    </a:lnTo>
                    <a:lnTo>
                      <a:pt x="1131" y="1635"/>
                    </a:lnTo>
                    <a:lnTo>
                      <a:pt x="1095" y="1633"/>
                    </a:lnTo>
                    <a:lnTo>
                      <a:pt x="815" y="1633"/>
                    </a:lnTo>
                    <a:lnTo>
                      <a:pt x="780" y="1636"/>
                    </a:lnTo>
                    <a:lnTo>
                      <a:pt x="751" y="1645"/>
                    </a:lnTo>
                    <a:lnTo>
                      <a:pt x="724" y="1663"/>
                    </a:lnTo>
                    <a:lnTo>
                      <a:pt x="698" y="1684"/>
                    </a:lnTo>
                    <a:lnTo>
                      <a:pt x="675" y="1715"/>
                    </a:lnTo>
                    <a:lnTo>
                      <a:pt x="657" y="1748"/>
                    </a:lnTo>
                    <a:lnTo>
                      <a:pt x="649" y="1779"/>
                    </a:lnTo>
                    <a:lnTo>
                      <a:pt x="638" y="1743"/>
                    </a:lnTo>
                    <a:lnTo>
                      <a:pt x="621" y="1710"/>
                    </a:lnTo>
                    <a:lnTo>
                      <a:pt x="600" y="1683"/>
                    </a:lnTo>
                    <a:lnTo>
                      <a:pt x="577" y="1660"/>
                    </a:lnTo>
                    <a:lnTo>
                      <a:pt x="545" y="1643"/>
                    </a:lnTo>
                    <a:lnTo>
                      <a:pt x="513" y="1635"/>
                    </a:lnTo>
                    <a:lnTo>
                      <a:pt x="487" y="1633"/>
                    </a:lnTo>
                    <a:lnTo>
                      <a:pt x="205" y="1633"/>
                    </a:lnTo>
                    <a:lnTo>
                      <a:pt x="203" y="1633"/>
                    </a:lnTo>
                    <a:lnTo>
                      <a:pt x="172" y="1635"/>
                    </a:lnTo>
                    <a:lnTo>
                      <a:pt x="137" y="1631"/>
                    </a:lnTo>
                    <a:lnTo>
                      <a:pt x="101" y="1619"/>
                    </a:lnTo>
                    <a:lnTo>
                      <a:pt x="72" y="1600"/>
                    </a:lnTo>
                    <a:lnTo>
                      <a:pt x="42" y="1571"/>
                    </a:lnTo>
                    <a:lnTo>
                      <a:pt x="21" y="1543"/>
                    </a:lnTo>
                    <a:lnTo>
                      <a:pt x="0" y="15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87680" y="1655280"/>
                <a:ext cx="1816560" cy="2563920"/>
              </a:xfrm>
              <a:custGeom>
                <a:avLst/>
                <a:gdLst/>
                <a:ahLst/>
                <a:rect l="l" t="t" r="r" b="b"/>
                <a:pathLst>
                  <a:path w="1308" h="1789">
                    <a:moveTo>
                      <a:pt x="0" y="0"/>
                    </a:moveTo>
                    <a:lnTo>
                      <a:pt x="1308" y="0"/>
                    </a:lnTo>
                    <a:lnTo>
                      <a:pt x="1308" y="1519"/>
                    </a:lnTo>
                    <a:lnTo>
                      <a:pt x="1295" y="1550"/>
                    </a:lnTo>
                    <a:lnTo>
                      <a:pt x="1270" y="1578"/>
                    </a:lnTo>
                    <a:lnTo>
                      <a:pt x="1240" y="1604"/>
                    </a:lnTo>
                    <a:lnTo>
                      <a:pt x="1208" y="1626"/>
                    </a:lnTo>
                    <a:lnTo>
                      <a:pt x="1176" y="1639"/>
                    </a:lnTo>
                    <a:lnTo>
                      <a:pt x="1138" y="1645"/>
                    </a:lnTo>
                    <a:lnTo>
                      <a:pt x="1104" y="1643"/>
                    </a:lnTo>
                    <a:lnTo>
                      <a:pt x="819" y="1643"/>
                    </a:lnTo>
                    <a:lnTo>
                      <a:pt x="788" y="1648"/>
                    </a:lnTo>
                    <a:lnTo>
                      <a:pt x="756" y="1654"/>
                    </a:lnTo>
                    <a:lnTo>
                      <a:pt x="728" y="1674"/>
                    </a:lnTo>
                    <a:lnTo>
                      <a:pt x="703" y="1695"/>
                    </a:lnTo>
                    <a:lnTo>
                      <a:pt x="679" y="1726"/>
                    </a:lnTo>
                    <a:lnTo>
                      <a:pt x="663" y="1758"/>
                    </a:lnTo>
                    <a:lnTo>
                      <a:pt x="654" y="1789"/>
                    </a:lnTo>
                    <a:lnTo>
                      <a:pt x="643" y="1755"/>
                    </a:lnTo>
                    <a:lnTo>
                      <a:pt x="626" y="1722"/>
                    </a:lnTo>
                    <a:lnTo>
                      <a:pt x="605" y="1691"/>
                    </a:lnTo>
                    <a:lnTo>
                      <a:pt x="582" y="1669"/>
                    </a:lnTo>
                    <a:lnTo>
                      <a:pt x="549" y="1654"/>
                    </a:lnTo>
                    <a:lnTo>
                      <a:pt x="518" y="1645"/>
                    </a:lnTo>
                    <a:lnTo>
                      <a:pt x="490" y="1643"/>
                    </a:lnTo>
                    <a:lnTo>
                      <a:pt x="208" y="1643"/>
                    </a:lnTo>
                    <a:lnTo>
                      <a:pt x="204" y="1643"/>
                    </a:lnTo>
                    <a:lnTo>
                      <a:pt x="174" y="1645"/>
                    </a:lnTo>
                    <a:lnTo>
                      <a:pt x="137" y="1641"/>
                    </a:lnTo>
                    <a:lnTo>
                      <a:pt x="102" y="1628"/>
                    </a:lnTo>
                    <a:lnTo>
                      <a:pt x="74" y="1611"/>
                    </a:lnTo>
                    <a:lnTo>
                      <a:pt x="42" y="1583"/>
                    </a:lnTo>
                    <a:lnTo>
                      <a:pt x="21" y="1552"/>
                    </a:lnTo>
                    <a:lnTo>
                      <a:pt x="0" y="15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283840" y="3876840"/>
                <a:ext cx="2397240" cy="758160"/>
                <a:chOff x="2283840" y="3876840"/>
                <a:chExt cx="2397240" cy="758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283840" y="3876840"/>
                  <a:ext cx="2397240" cy="75816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283840" y="3876840"/>
                  <a:ext cx="2397240" cy="75816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283840" y="3580200"/>
                <a:ext cx="287280" cy="446760"/>
                <a:chOff x="2283840" y="3580200"/>
                <a:chExt cx="287280" cy="4467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283840" y="3580200"/>
                  <a:ext cx="287280" cy="44676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283840" y="3580200"/>
                  <a:ext cx="287280" cy="44676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2832480" y="1987920"/>
                <a:ext cx="291600" cy="462960"/>
              </a:xfrm>
              <a:custGeom>
                <a:avLst/>
                <a:gdLst/>
                <a:ahLst/>
                <a:rect l="l" t="t" r="r" b="b"/>
                <a:pathLst>
                  <a:path w="210" h="323">
                    <a:moveTo>
                      <a:pt x="208" y="27"/>
                    </a:moveTo>
                    <a:lnTo>
                      <a:pt x="210" y="22"/>
                    </a:lnTo>
                    <a:lnTo>
                      <a:pt x="210" y="16"/>
                    </a:lnTo>
                    <a:lnTo>
                      <a:pt x="210" y="14"/>
                    </a:lnTo>
                    <a:lnTo>
                      <a:pt x="206" y="7"/>
                    </a:lnTo>
                    <a:lnTo>
                      <a:pt x="200" y="3"/>
                    </a:lnTo>
                    <a:lnTo>
                      <a:pt x="193" y="0"/>
                    </a:lnTo>
                    <a:lnTo>
                      <a:pt x="172" y="7"/>
                    </a:lnTo>
                    <a:lnTo>
                      <a:pt x="149" y="16"/>
                    </a:lnTo>
                    <a:lnTo>
                      <a:pt x="117" y="36"/>
                    </a:lnTo>
                    <a:lnTo>
                      <a:pt x="87" y="57"/>
                    </a:lnTo>
                    <a:lnTo>
                      <a:pt x="63" y="92"/>
                    </a:lnTo>
                    <a:lnTo>
                      <a:pt x="36" y="120"/>
                    </a:lnTo>
                    <a:lnTo>
                      <a:pt x="19" y="160"/>
                    </a:lnTo>
                    <a:lnTo>
                      <a:pt x="9" y="201"/>
                    </a:lnTo>
                    <a:lnTo>
                      <a:pt x="0" y="251"/>
                    </a:lnTo>
                    <a:lnTo>
                      <a:pt x="0" y="288"/>
                    </a:lnTo>
                    <a:lnTo>
                      <a:pt x="2" y="319"/>
                    </a:lnTo>
                    <a:lnTo>
                      <a:pt x="9" y="323"/>
                    </a:lnTo>
                    <a:lnTo>
                      <a:pt x="19" y="323"/>
                    </a:lnTo>
                    <a:lnTo>
                      <a:pt x="21" y="314"/>
                    </a:lnTo>
                    <a:lnTo>
                      <a:pt x="28" y="288"/>
                    </a:lnTo>
                    <a:lnTo>
                      <a:pt x="40" y="233"/>
                    </a:lnTo>
                    <a:lnTo>
                      <a:pt x="63" y="182"/>
                    </a:lnTo>
                    <a:lnTo>
                      <a:pt x="93" y="140"/>
                    </a:lnTo>
                    <a:lnTo>
                      <a:pt x="117" y="103"/>
                    </a:lnTo>
                    <a:lnTo>
                      <a:pt x="159" y="66"/>
                    </a:lnTo>
                    <a:lnTo>
                      <a:pt x="200" y="34"/>
                    </a:lnTo>
                    <a:lnTo>
                      <a:pt x="208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832480" y="1987920"/>
                <a:ext cx="305280" cy="475560"/>
              </a:xfrm>
              <a:custGeom>
                <a:avLst/>
                <a:gdLst/>
                <a:ahLst/>
                <a:rect l="l" t="t" r="r" b="b"/>
                <a:pathLst>
                  <a:path w="220" h="332">
                    <a:moveTo>
                      <a:pt x="218" y="27"/>
                    </a:moveTo>
                    <a:lnTo>
                      <a:pt x="220" y="22"/>
                    </a:lnTo>
                    <a:lnTo>
                      <a:pt x="220" y="16"/>
                    </a:lnTo>
                    <a:lnTo>
                      <a:pt x="220" y="14"/>
                    </a:lnTo>
                    <a:lnTo>
                      <a:pt x="216" y="7"/>
                    </a:lnTo>
                    <a:lnTo>
                      <a:pt x="210" y="3"/>
                    </a:lnTo>
                    <a:lnTo>
                      <a:pt x="201" y="0"/>
                    </a:lnTo>
                    <a:lnTo>
                      <a:pt x="180" y="7"/>
                    </a:lnTo>
                    <a:lnTo>
                      <a:pt x="157" y="16"/>
                    </a:lnTo>
                    <a:lnTo>
                      <a:pt x="122" y="38"/>
                    </a:lnTo>
                    <a:lnTo>
                      <a:pt x="91" y="60"/>
                    </a:lnTo>
                    <a:lnTo>
                      <a:pt x="68" y="94"/>
                    </a:lnTo>
                    <a:lnTo>
                      <a:pt x="38" y="123"/>
                    </a:lnTo>
                    <a:lnTo>
                      <a:pt x="19" y="164"/>
                    </a:lnTo>
                    <a:lnTo>
                      <a:pt x="9" y="206"/>
                    </a:lnTo>
                    <a:lnTo>
                      <a:pt x="0" y="258"/>
                    </a:lnTo>
                    <a:lnTo>
                      <a:pt x="0" y="297"/>
                    </a:lnTo>
                    <a:lnTo>
                      <a:pt x="2" y="328"/>
                    </a:lnTo>
                    <a:lnTo>
                      <a:pt x="10" y="332"/>
                    </a:lnTo>
                    <a:lnTo>
                      <a:pt x="19" y="332"/>
                    </a:lnTo>
                    <a:lnTo>
                      <a:pt x="21" y="323"/>
                    </a:lnTo>
                    <a:lnTo>
                      <a:pt x="28" y="297"/>
                    </a:lnTo>
                    <a:lnTo>
                      <a:pt x="42" y="241"/>
                    </a:lnTo>
                    <a:lnTo>
                      <a:pt x="68" y="186"/>
                    </a:lnTo>
                    <a:lnTo>
                      <a:pt x="98" y="142"/>
                    </a:lnTo>
                    <a:lnTo>
                      <a:pt x="120" y="105"/>
                    </a:lnTo>
                    <a:lnTo>
                      <a:pt x="165" y="68"/>
                    </a:lnTo>
                    <a:lnTo>
                      <a:pt x="210" y="34"/>
                    </a:lnTo>
                    <a:lnTo>
                      <a:pt x="218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22960" y="1776960"/>
                <a:ext cx="112320" cy="15624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81" y="55"/>
                    </a:moveTo>
                    <a:lnTo>
                      <a:pt x="74" y="29"/>
                    </a:lnTo>
                    <a:lnTo>
                      <a:pt x="60" y="9"/>
                    </a:lnTo>
                    <a:lnTo>
                      <a:pt x="42" y="0"/>
                    </a:lnTo>
                    <a:lnTo>
                      <a:pt x="19" y="9"/>
                    </a:lnTo>
                    <a:lnTo>
                      <a:pt x="4" y="29"/>
                    </a:lnTo>
                    <a:lnTo>
                      <a:pt x="0" y="55"/>
                    </a:lnTo>
                    <a:lnTo>
                      <a:pt x="4" y="81"/>
                    </a:lnTo>
                    <a:lnTo>
                      <a:pt x="19" y="101"/>
                    </a:lnTo>
                    <a:lnTo>
                      <a:pt x="42" y="109"/>
                    </a:lnTo>
                    <a:lnTo>
                      <a:pt x="60" y="101"/>
                    </a:lnTo>
                    <a:lnTo>
                      <a:pt x="74" y="81"/>
                    </a:lnTo>
                    <a:lnTo>
                      <a:pt x="81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622960" y="1776960"/>
                <a:ext cx="126000" cy="17172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91" y="61"/>
                    </a:moveTo>
                    <a:lnTo>
                      <a:pt x="84" y="33"/>
                    </a:lnTo>
                    <a:lnTo>
                      <a:pt x="66" y="9"/>
                    </a:lnTo>
                    <a:lnTo>
                      <a:pt x="47" y="0"/>
                    </a:lnTo>
                    <a:lnTo>
                      <a:pt x="21" y="9"/>
                    </a:lnTo>
                    <a:lnTo>
                      <a:pt x="3" y="33"/>
                    </a:lnTo>
                    <a:lnTo>
                      <a:pt x="0" y="61"/>
                    </a:lnTo>
                    <a:lnTo>
                      <a:pt x="3" y="89"/>
                    </a:lnTo>
                    <a:lnTo>
                      <a:pt x="21" y="111"/>
                    </a:lnTo>
                    <a:lnTo>
                      <a:pt x="47" y="120"/>
                    </a:lnTo>
                    <a:lnTo>
                      <a:pt x="66" y="111"/>
                    </a:lnTo>
                    <a:lnTo>
                      <a:pt x="84" y="89"/>
                    </a:lnTo>
                    <a:lnTo>
                      <a:pt x="91" y="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10080" y="1877400"/>
                <a:ext cx="240120" cy="28656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73" y="128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2"/>
                    </a:lnTo>
                    <a:lnTo>
                      <a:pt x="19" y="19"/>
                    </a:lnTo>
                    <a:lnTo>
                      <a:pt x="9" y="33"/>
                    </a:lnTo>
                    <a:lnTo>
                      <a:pt x="0" y="36"/>
                    </a:lnTo>
                    <a:lnTo>
                      <a:pt x="113" y="200"/>
                    </a:lnTo>
                    <a:lnTo>
                      <a:pt x="173" y="12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10080" y="1877400"/>
                <a:ext cx="251640" cy="30204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81" y="135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2"/>
                    </a:lnTo>
                    <a:lnTo>
                      <a:pt x="22" y="22"/>
                    </a:lnTo>
                    <a:lnTo>
                      <a:pt x="12" y="33"/>
                    </a:lnTo>
                    <a:lnTo>
                      <a:pt x="0" y="39"/>
                    </a:lnTo>
                    <a:lnTo>
                      <a:pt x="119" y="211"/>
                    </a:lnTo>
                    <a:lnTo>
                      <a:pt x="181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3056040" y="3052800"/>
                <a:ext cx="834840" cy="540000"/>
                <a:chOff x="3056040" y="3052800"/>
                <a:chExt cx="834840" cy="5400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056040" y="3052800"/>
                  <a:ext cx="834840" cy="54000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056040" y="3052800"/>
                  <a:ext cx="834840" cy="54000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470040" y="3174840"/>
                <a:ext cx="1080" cy="402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50360" y="3459600"/>
                <a:ext cx="6595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38080" y="3127320"/>
                <a:ext cx="11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725640" y="2354760"/>
                <a:ext cx="391680" cy="933120"/>
                <a:chOff x="3725640" y="2354760"/>
                <a:chExt cx="391680" cy="933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25640" y="2354760"/>
                  <a:ext cx="391680" cy="93312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725640" y="2354760"/>
                  <a:ext cx="391680" cy="93312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4020120" y="2760480"/>
                <a:ext cx="85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08960" y="2413440"/>
                <a:ext cx="234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834720" y="3124440"/>
                <a:ext cx="2401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3040920" y="1954800"/>
                <a:ext cx="791640" cy="537480"/>
                <a:chOff x="3040920" y="1954800"/>
                <a:chExt cx="791640" cy="5374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040920" y="1954800"/>
                  <a:ext cx="791640" cy="53748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040920" y="1954800"/>
                  <a:ext cx="791640" cy="53748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3470040" y="1938600"/>
                <a:ext cx="1080" cy="434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21560" y="2111400"/>
                <a:ext cx="685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47560" y="2403360"/>
                <a:ext cx="149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2832480" y="2297520"/>
                <a:ext cx="376200" cy="987120"/>
                <a:chOff x="2832480" y="2297520"/>
                <a:chExt cx="376200" cy="987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832480" y="2297520"/>
                  <a:ext cx="376200" cy="98712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832480" y="2297520"/>
                  <a:ext cx="376200" cy="98712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2819880" y="2760480"/>
                <a:ext cx="149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19960" y="2413440"/>
                <a:ext cx="127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878200" y="3115800"/>
                <a:ext cx="2124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00480" y="4128840"/>
                <a:ext cx="98280" cy="12456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0" y="87"/>
                    </a:moveTo>
                    <a:lnTo>
                      <a:pt x="41" y="87"/>
                    </a:lnTo>
                    <a:lnTo>
                      <a:pt x="41" y="11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0" y="11"/>
                    </a:lnTo>
                    <a:lnTo>
                      <a:pt x="3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481120" y="4180680"/>
                <a:ext cx="112320" cy="130320"/>
              </a:xfrm>
              <a:custGeom>
                <a:avLst/>
                <a:gdLst/>
                <a:ahLst/>
                <a:rect l="l" t="t" r="r" b="b"/>
                <a:pathLst>
                  <a:path w="81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7" y="69"/>
                    </a:lnTo>
                    <a:lnTo>
                      <a:pt x="7" y="74"/>
                    </a:lnTo>
                    <a:lnTo>
                      <a:pt x="8" y="76"/>
                    </a:lnTo>
                    <a:lnTo>
                      <a:pt x="10" y="78"/>
                    </a:lnTo>
                    <a:lnTo>
                      <a:pt x="12" y="78"/>
                    </a:lnTo>
                    <a:lnTo>
                      <a:pt x="12" y="79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7" y="84"/>
                    </a:lnTo>
                    <a:lnTo>
                      <a:pt x="19" y="84"/>
                    </a:lnTo>
                    <a:lnTo>
                      <a:pt x="21" y="86"/>
                    </a:lnTo>
                    <a:lnTo>
                      <a:pt x="21" y="89"/>
                    </a:lnTo>
                    <a:lnTo>
                      <a:pt x="23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2" y="91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61" y="86"/>
                    </a:lnTo>
                    <a:lnTo>
                      <a:pt x="63" y="84"/>
                    </a:lnTo>
                    <a:lnTo>
                      <a:pt x="66" y="84"/>
                    </a:lnTo>
                    <a:lnTo>
                      <a:pt x="68" y="82"/>
                    </a:lnTo>
                    <a:lnTo>
                      <a:pt x="68" y="79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6"/>
                    </a:lnTo>
                    <a:lnTo>
                      <a:pt x="74" y="74"/>
                    </a:lnTo>
                    <a:lnTo>
                      <a:pt x="74" y="69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79" y="65"/>
                    </a:lnTo>
                    <a:lnTo>
                      <a:pt x="79" y="62"/>
                    </a:lnTo>
                    <a:lnTo>
                      <a:pt x="79" y="60"/>
                    </a:lnTo>
                    <a:lnTo>
                      <a:pt x="79" y="58"/>
                    </a:lnTo>
                    <a:lnTo>
                      <a:pt x="79" y="54"/>
                    </a:lnTo>
                    <a:lnTo>
                      <a:pt x="81" y="54"/>
                    </a:lnTo>
                    <a:lnTo>
                      <a:pt x="81" y="50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81" y="36"/>
                    </a:lnTo>
                    <a:lnTo>
                      <a:pt x="79" y="36"/>
                    </a:lnTo>
                    <a:lnTo>
                      <a:pt x="79" y="32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77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4" y="17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2" y="45"/>
                    </a:lnTo>
                    <a:lnTo>
                      <a:pt x="12" y="41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4" y="10"/>
                    </a:lnTo>
                    <a:lnTo>
                      <a:pt x="47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17"/>
                    </a:lnTo>
                    <a:lnTo>
                      <a:pt x="61" y="19"/>
                    </a:lnTo>
                    <a:lnTo>
                      <a:pt x="63" y="21"/>
                    </a:lnTo>
                    <a:lnTo>
                      <a:pt x="63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50"/>
                    </a:lnTo>
                    <a:lnTo>
                      <a:pt x="68" y="54"/>
                    </a:lnTo>
                    <a:lnTo>
                      <a:pt x="68" y="56"/>
                    </a:lnTo>
                    <a:lnTo>
                      <a:pt x="66" y="60"/>
                    </a:lnTo>
                    <a:lnTo>
                      <a:pt x="66" y="65"/>
                    </a:lnTo>
                    <a:lnTo>
                      <a:pt x="63" y="67"/>
                    </a:lnTo>
                    <a:lnTo>
                      <a:pt x="63" y="69"/>
                    </a:lnTo>
                    <a:lnTo>
                      <a:pt x="61" y="71"/>
                    </a:lnTo>
                    <a:lnTo>
                      <a:pt x="59" y="74"/>
                    </a:lnTo>
                    <a:lnTo>
                      <a:pt x="57" y="76"/>
                    </a:lnTo>
                    <a:lnTo>
                      <a:pt x="55" y="78"/>
                    </a:lnTo>
                    <a:lnTo>
                      <a:pt x="53" y="78"/>
                    </a:lnTo>
                    <a:lnTo>
                      <a:pt x="49" y="78"/>
                    </a:lnTo>
                    <a:lnTo>
                      <a:pt x="47" y="79"/>
                    </a:lnTo>
                    <a:lnTo>
                      <a:pt x="44" y="79"/>
                    </a:lnTo>
                    <a:lnTo>
                      <a:pt x="40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6" y="78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21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4" y="60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54640" y="4235400"/>
                <a:ext cx="91440" cy="131400"/>
              </a:xfrm>
              <a:custGeom>
                <a:avLst/>
                <a:gdLst/>
                <a:ahLst/>
                <a:rect l="l" t="t" r="r" b="b"/>
                <a:pathLst>
                  <a:path w="66" h="92">
                    <a:moveTo>
                      <a:pt x="0" y="61"/>
                    </a:moveTo>
                    <a:lnTo>
                      <a:pt x="0" y="63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6" y="78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5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19" y="89"/>
                    </a:lnTo>
                    <a:lnTo>
                      <a:pt x="24" y="92"/>
                    </a:lnTo>
                    <a:lnTo>
                      <a:pt x="26" y="92"/>
                    </a:lnTo>
                    <a:lnTo>
                      <a:pt x="28" y="92"/>
                    </a:lnTo>
                    <a:lnTo>
                      <a:pt x="34" y="92"/>
                    </a:lnTo>
                    <a:lnTo>
                      <a:pt x="38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7" y="89"/>
                    </a:lnTo>
                    <a:lnTo>
                      <a:pt x="52" y="89"/>
                    </a:lnTo>
                    <a:lnTo>
                      <a:pt x="53" y="87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4" y="56"/>
                    </a:lnTo>
                    <a:lnTo>
                      <a:pt x="64" y="54"/>
                    </a:lnTo>
                    <a:lnTo>
                      <a:pt x="62" y="51"/>
                    </a:lnTo>
                    <a:lnTo>
                      <a:pt x="59" y="48"/>
                    </a:lnTo>
                    <a:lnTo>
                      <a:pt x="57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7" y="44"/>
                    </a:lnTo>
                    <a:lnTo>
                      <a:pt x="45" y="41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7"/>
                    </a:lnTo>
                    <a:lnTo>
                      <a:pt x="52" y="28"/>
                    </a:lnTo>
                    <a:lnTo>
                      <a:pt x="64" y="28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6"/>
                    </a:lnTo>
                    <a:lnTo>
                      <a:pt x="19" y="46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8" y="48"/>
                    </a:lnTo>
                    <a:lnTo>
                      <a:pt x="29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52" y="56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2" y="75"/>
                    </a:lnTo>
                    <a:lnTo>
                      <a:pt x="52" y="76"/>
                    </a:lnTo>
                    <a:lnTo>
                      <a:pt x="49" y="78"/>
                    </a:lnTo>
                    <a:lnTo>
                      <a:pt x="47" y="78"/>
                    </a:lnTo>
                    <a:lnTo>
                      <a:pt x="43" y="78"/>
                    </a:lnTo>
                    <a:lnTo>
                      <a:pt x="43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6" y="83"/>
                    </a:lnTo>
                    <a:lnTo>
                      <a:pt x="34" y="83"/>
                    </a:lnTo>
                    <a:lnTo>
                      <a:pt x="29" y="83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80"/>
                    </a:lnTo>
                    <a:lnTo>
                      <a:pt x="22" y="78"/>
                    </a:lnTo>
                    <a:lnTo>
                      <a:pt x="19" y="78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0" y="68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66960" y="4285440"/>
                <a:ext cx="91440" cy="12888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0" y="54"/>
                    </a:moveTo>
                    <a:lnTo>
                      <a:pt x="0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5" y="77"/>
                    </a:lnTo>
                    <a:lnTo>
                      <a:pt x="7" y="78"/>
                    </a:lnTo>
                    <a:lnTo>
                      <a:pt x="7" y="81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10" y="83"/>
                    </a:lnTo>
                    <a:lnTo>
                      <a:pt x="10" y="85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6" y="90"/>
                    </a:lnTo>
                    <a:lnTo>
                      <a:pt x="38" y="90"/>
                    </a:lnTo>
                    <a:lnTo>
                      <a:pt x="42" y="90"/>
                    </a:lnTo>
                    <a:lnTo>
                      <a:pt x="45" y="88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7" y="81"/>
                    </a:lnTo>
                    <a:lnTo>
                      <a:pt x="59" y="78"/>
                    </a:lnTo>
                    <a:lnTo>
                      <a:pt x="59" y="77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64" y="73"/>
                    </a:lnTo>
                    <a:lnTo>
                      <a:pt x="64" y="70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4"/>
                    </a:lnTo>
                    <a:lnTo>
                      <a:pt x="66" y="0"/>
                    </a:lnTo>
                    <a:lnTo>
                      <a:pt x="56" y="0"/>
                    </a:lnTo>
                    <a:lnTo>
                      <a:pt x="56" y="54"/>
                    </a:lnTo>
                    <a:lnTo>
                      <a:pt x="56" y="57"/>
                    </a:lnTo>
                    <a:lnTo>
                      <a:pt x="56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4" y="68"/>
                    </a:lnTo>
                    <a:lnTo>
                      <a:pt x="51" y="70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47" y="77"/>
                    </a:lnTo>
                    <a:lnTo>
                      <a:pt x="45" y="77"/>
                    </a:lnTo>
                    <a:lnTo>
                      <a:pt x="42" y="77"/>
                    </a:lnTo>
                    <a:lnTo>
                      <a:pt x="40" y="78"/>
                    </a:lnTo>
                    <a:lnTo>
                      <a:pt x="38" y="78"/>
                    </a:lnTo>
                    <a:lnTo>
                      <a:pt x="36" y="78"/>
                    </a:lnTo>
                    <a:lnTo>
                      <a:pt x="34" y="78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7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5" y="70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10" y="64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03040" y="4303800"/>
                <a:ext cx="84600" cy="124560"/>
              </a:xfrm>
              <a:custGeom>
                <a:avLst/>
                <a:gdLst/>
                <a:ahLst/>
                <a:rect l="l" t="t" r="r" b="b"/>
                <a:pathLst>
                  <a:path w="61" h="87">
                    <a:moveTo>
                      <a:pt x="0" y="87"/>
                    </a:moveTo>
                    <a:lnTo>
                      <a:pt x="12" y="87"/>
                    </a:lnTo>
                    <a:lnTo>
                      <a:pt x="12" y="51"/>
                    </a:lnTo>
                    <a:lnTo>
                      <a:pt x="30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7" y="51"/>
                    </a:lnTo>
                    <a:lnTo>
                      <a:pt x="49" y="48"/>
                    </a:lnTo>
                    <a:lnTo>
                      <a:pt x="51" y="46"/>
                    </a:lnTo>
                    <a:lnTo>
                      <a:pt x="53" y="46"/>
                    </a:lnTo>
                    <a:lnTo>
                      <a:pt x="55" y="44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1" y="27"/>
                    </a:lnTo>
                    <a:lnTo>
                      <a:pt x="61" y="24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12" y="41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1" y="24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2" y="37"/>
                    </a:lnTo>
                    <a:lnTo>
                      <a:pt x="42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1120" y="4332600"/>
                <a:ext cx="84600" cy="12132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5"/>
                    </a:moveTo>
                    <a:lnTo>
                      <a:pt x="10" y="85"/>
                    </a:lnTo>
                    <a:lnTo>
                      <a:pt x="10" y="50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7" y="50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51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0"/>
                    </a:lnTo>
                    <a:lnTo>
                      <a:pt x="58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1" y="21"/>
                    </a:lnTo>
                    <a:lnTo>
                      <a:pt x="58" y="21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" y="40"/>
                    </a:lnTo>
                    <a:lnTo>
                      <a:pt x="10" y="11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48" y="30"/>
                    </a:lnTo>
                    <a:lnTo>
                      <a:pt x="46" y="33"/>
                    </a:lnTo>
                    <a:lnTo>
                      <a:pt x="46" y="35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3" y="40"/>
                    </a:lnTo>
                    <a:lnTo>
                      <a:pt x="31" y="40"/>
                    </a:lnTo>
                    <a:lnTo>
                      <a:pt x="10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29480" y="4348440"/>
                <a:ext cx="108000" cy="13032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1"/>
                    </a:lnTo>
                    <a:lnTo>
                      <a:pt x="15" y="82"/>
                    </a:lnTo>
                    <a:lnTo>
                      <a:pt x="17" y="85"/>
                    </a:lnTo>
                    <a:lnTo>
                      <a:pt x="19" y="85"/>
                    </a:lnTo>
                    <a:lnTo>
                      <a:pt x="21" y="87"/>
                    </a:lnTo>
                    <a:lnTo>
                      <a:pt x="24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31" y="89"/>
                    </a:lnTo>
                    <a:lnTo>
                      <a:pt x="36" y="89"/>
                    </a:lnTo>
                    <a:lnTo>
                      <a:pt x="36" y="91"/>
                    </a:lnTo>
                    <a:lnTo>
                      <a:pt x="40" y="91"/>
                    </a:lnTo>
                    <a:lnTo>
                      <a:pt x="43" y="91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7" y="87"/>
                    </a:lnTo>
                    <a:lnTo>
                      <a:pt x="59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8" y="81"/>
                    </a:lnTo>
                    <a:lnTo>
                      <a:pt x="68" y="79"/>
                    </a:lnTo>
                    <a:lnTo>
                      <a:pt x="70" y="79"/>
                    </a:lnTo>
                    <a:lnTo>
                      <a:pt x="70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6" y="65"/>
                    </a:lnTo>
                    <a:lnTo>
                      <a:pt x="76" y="63"/>
                    </a:lnTo>
                    <a:lnTo>
                      <a:pt x="76" y="61"/>
                    </a:lnTo>
                    <a:lnTo>
                      <a:pt x="76" y="58"/>
                    </a:lnTo>
                    <a:lnTo>
                      <a:pt x="78" y="55"/>
                    </a:lnTo>
                    <a:lnTo>
                      <a:pt x="78" y="53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8" y="34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4" y="22"/>
                    </a:lnTo>
                    <a:lnTo>
                      <a:pt x="72" y="17"/>
                    </a:lnTo>
                    <a:lnTo>
                      <a:pt x="70" y="15"/>
                    </a:lnTo>
                    <a:lnTo>
                      <a:pt x="70" y="13"/>
                    </a:lnTo>
                    <a:lnTo>
                      <a:pt x="68" y="13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3" y="46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34"/>
                    </a:lnTo>
                    <a:lnTo>
                      <a:pt x="15" y="31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5" y="15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1" y="22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8" y="37"/>
                    </a:lnTo>
                    <a:lnTo>
                      <a:pt x="68" y="41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68" y="53"/>
                    </a:lnTo>
                    <a:lnTo>
                      <a:pt x="66" y="57"/>
                    </a:lnTo>
                    <a:lnTo>
                      <a:pt x="66" y="61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1" y="70"/>
                    </a:lnTo>
                    <a:lnTo>
                      <a:pt x="59" y="72"/>
                    </a:lnTo>
                    <a:lnTo>
                      <a:pt x="59" y="74"/>
                    </a:lnTo>
                    <a:lnTo>
                      <a:pt x="55" y="74"/>
                    </a:lnTo>
                    <a:lnTo>
                      <a:pt x="53" y="76"/>
                    </a:lnTo>
                    <a:lnTo>
                      <a:pt x="50" y="79"/>
                    </a:lnTo>
                    <a:lnTo>
                      <a:pt x="48" y="79"/>
                    </a:lnTo>
                    <a:lnTo>
                      <a:pt x="47" y="79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6" y="81"/>
                    </a:lnTo>
                    <a:lnTo>
                      <a:pt x="34" y="79"/>
                    </a:lnTo>
                    <a:lnTo>
                      <a:pt x="31" y="79"/>
                    </a:lnTo>
                    <a:lnTo>
                      <a:pt x="27" y="79"/>
                    </a:lnTo>
                    <a:lnTo>
                      <a:pt x="25" y="76"/>
                    </a:lnTo>
                    <a:lnTo>
                      <a:pt x="24" y="74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9" y="70"/>
                    </a:lnTo>
                    <a:lnTo>
                      <a:pt x="17" y="65"/>
                    </a:lnTo>
                    <a:lnTo>
                      <a:pt x="15" y="63"/>
                    </a:lnTo>
                    <a:lnTo>
                      <a:pt x="15" y="61"/>
                    </a:lnTo>
                    <a:lnTo>
                      <a:pt x="13" y="57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14200" y="4328280"/>
                <a:ext cx="94320" cy="12600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0" y="88"/>
                    </a:moveTo>
                    <a:lnTo>
                      <a:pt x="32" y="88"/>
                    </a:lnTo>
                    <a:lnTo>
                      <a:pt x="36" y="88"/>
                    </a:lnTo>
                    <a:lnTo>
                      <a:pt x="41" y="86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7" y="86"/>
                    </a:lnTo>
                    <a:lnTo>
                      <a:pt x="49" y="83"/>
                    </a:lnTo>
                    <a:lnTo>
                      <a:pt x="51" y="81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7" y="77"/>
                    </a:lnTo>
                    <a:lnTo>
                      <a:pt x="57" y="74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2" y="69"/>
                    </a:lnTo>
                    <a:lnTo>
                      <a:pt x="64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3"/>
                    </a:lnTo>
                    <a:lnTo>
                      <a:pt x="66" y="50"/>
                    </a:lnTo>
                    <a:lnTo>
                      <a:pt x="68" y="47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7" y="9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1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9" y="18"/>
                    </a:lnTo>
                    <a:lnTo>
                      <a:pt x="51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5" y="36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5" y="47"/>
                    </a:lnTo>
                    <a:lnTo>
                      <a:pt x="55" y="50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3" y="62"/>
                    </a:lnTo>
                    <a:lnTo>
                      <a:pt x="53" y="64"/>
                    </a:lnTo>
                    <a:lnTo>
                      <a:pt x="51" y="66"/>
                    </a:lnTo>
                    <a:lnTo>
                      <a:pt x="49" y="69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6" y="74"/>
                    </a:lnTo>
                    <a:lnTo>
                      <a:pt x="34" y="77"/>
                    </a:lnTo>
                    <a:lnTo>
                      <a:pt x="32" y="77"/>
                    </a:lnTo>
                    <a:lnTo>
                      <a:pt x="11" y="77"/>
                    </a:lnTo>
                    <a:lnTo>
                      <a:pt x="11" y="12"/>
                    </a:lnTo>
                    <a:lnTo>
                      <a:pt x="32" y="1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77080" y="4359600"/>
                <a:ext cx="96840" cy="12636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0" y="0"/>
                    </a:moveTo>
                    <a:lnTo>
                      <a:pt x="0" y="88"/>
                    </a:lnTo>
                    <a:lnTo>
                      <a:pt x="12" y="88"/>
                    </a:lnTo>
                    <a:lnTo>
                      <a:pt x="12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7" y="50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50" y="57"/>
                    </a:lnTo>
                    <a:lnTo>
                      <a:pt x="52" y="62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8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8" y="81"/>
                    </a:lnTo>
                    <a:lnTo>
                      <a:pt x="65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3" y="62"/>
                    </a:lnTo>
                    <a:lnTo>
                      <a:pt x="63" y="59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0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3" y="37"/>
                    </a:lnTo>
                    <a:lnTo>
                      <a:pt x="63" y="36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6"/>
                    </a:lnTo>
                    <a:lnTo>
                      <a:pt x="68" y="24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0" y="15"/>
                    </a:lnTo>
                    <a:lnTo>
                      <a:pt x="52" y="17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7" y="37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76800" y="4379760"/>
                <a:ext cx="97200" cy="12312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29" y="86"/>
                    </a:moveTo>
                    <a:lnTo>
                      <a:pt x="40" y="86"/>
                    </a:lnTo>
                    <a:lnTo>
                      <a:pt x="40" y="11"/>
                    </a:lnTo>
                    <a:lnTo>
                      <a:pt x="70" y="11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64360" y="4388760"/>
                <a:ext cx="108000" cy="124200"/>
              </a:xfrm>
              <a:custGeom>
                <a:avLst/>
                <a:gdLst/>
                <a:ahLst/>
                <a:rect l="l" t="t" r="r" b="b"/>
                <a:pathLst>
                  <a:path w="78" h="87">
                    <a:moveTo>
                      <a:pt x="0" y="87"/>
                    </a:moveTo>
                    <a:lnTo>
                      <a:pt x="13" y="87"/>
                    </a:lnTo>
                    <a:lnTo>
                      <a:pt x="21" y="61"/>
                    </a:lnTo>
                    <a:lnTo>
                      <a:pt x="57" y="61"/>
                    </a:lnTo>
                    <a:lnTo>
                      <a:pt x="65" y="87"/>
                    </a:lnTo>
                    <a:lnTo>
                      <a:pt x="78" y="87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87"/>
                    </a:lnTo>
                    <a:lnTo>
                      <a:pt x="25" y="50"/>
                    </a:lnTo>
                    <a:lnTo>
                      <a:pt x="40" y="13"/>
                    </a:lnTo>
                    <a:lnTo>
                      <a:pt x="53" y="50"/>
                    </a:lnTo>
                    <a:lnTo>
                      <a:pt x="25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90720" y="4359600"/>
                <a:ext cx="90000" cy="12636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10" y="88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53" y="88"/>
                    </a:lnTo>
                    <a:lnTo>
                      <a:pt x="65" y="88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54" y="71"/>
                    </a:lnTo>
                    <a:lnTo>
                      <a:pt x="53" y="69"/>
                    </a:lnTo>
                    <a:lnTo>
                      <a:pt x="51" y="66"/>
                    </a:lnTo>
                    <a:lnTo>
                      <a:pt x="51" y="6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61720" y="2344680"/>
                <a:ext cx="1012320" cy="795600"/>
              </a:xfrm>
              <a:custGeom>
                <a:avLst/>
                <a:gdLst/>
                <a:ahLst/>
                <a:rect l="l" t="t" r="r" b="b"/>
                <a:pathLst>
                  <a:path w="729" h="555">
                    <a:moveTo>
                      <a:pt x="366" y="0"/>
                    </a:moveTo>
                    <a:lnTo>
                      <a:pt x="0" y="283"/>
                    </a:lnTo>
                    <a:lnTo>
                      <a:pt x="361" y="555"/>
                    </a:lnTo>
                    <a:lnTo>
                      <a:pt x="729" y="281"/>
                    </a:lnTo>
                    <a:lnTo>
                      <a:pt x="364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74040" y="4306680"/>
                <a:ext cx="90360" cy="134640"/>
              </a:xfrm>
              <a:custGeom>
                <a:avLst/>
                <a:gdLst/>
                <a:ahLst/>
                <a:rect l="l" t="t" r="r" b="b"/>
                <a:pathLst>
                  <a:path w="65" h="94">
                    <a:moveTo>
                      <a:pt x="0" y="61"/>
                    </a:moveTo>
                    <a:lnTo>
                      <a:pt x="0" y="65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6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3" y="92"/>
                    </a:lnTo>
                    <a:lnTo>
                      <a:pt x="25" y="94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4" y="92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5"/>
                    </a:lnTo>
                    <a:lnTo>
                      <a:pt x="61" y="80"/>
                    </a:lnTo>
                    <a:lnTo>
                      <a:pt x="63" y="80"/>
                    </a:lnTo>
                    <a:lnTo>
                      <a:pt x="63" y="76"/>
                    </a:lnTo>
                    <a:lnTo>
                      <a:pt x="65" y="72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59"/>
                    </a:lnTo>
                    <a:lnTo>
                      <a:pt x="63" y="56"/>
                    </a:lnTo>
                    <a:lnTo>
                      <a:pt x="63" y="54"/>
                    </a:lnTo>
                    <a:lnTo>
                      <a:pt x="63" y="52"/>
                    </a:lnTo>
                    <a:lnTo>
                      <a:pt x="59" y="50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3" y="44"/>
                    </a:lnTo>
                    <a:lnTo>
                      <a:pt x="51" y="44"/>
                    </a:lnTo>
                    <a:lnTo>
                      <a:pt x="49" y="44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0"/>
                    </a:lnTo>
                    <a:lnTo>
                      <a:pt x="61" y="18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1" y="50"/>
                    </a:lnTo>
                    <a:lnTo>
                      <a:pt x="23" y="50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4"/>
                    </a:lnTo>
                    <a:lnTo>
                      <a:pt x="49" y="56"/>
                    </a:lnTo>
                    <a:lnTo>
                      <a:pt x="51" y="56"/>
                    </a:lnTo>
                    <a:lnTo>
                      <a:pt x="51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1" y="76"/>
                    </a:lnTo>
                    <a:lnTo>
                      <a:pt x="51" y="78"/>
                    </a:lnTo>
                    <a:lnTo>
                      <a:pt x="49" y="78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5" y="83"/>
                    </a:lnTo>
                    <a:lnTo>
                      <a:pt x="33" y="83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19" y="80"/>
                    </a:lnTo>
                    <a:lnTo>
                      <a:pt x="19" y="78"/>
                    </a:lnTo>
                    <a:lnTo>
                      <a:pt x="16" y="78"/>
                    </a:lnTo>
                    <a:lnTo>
                      <a:pt x="14" y="76"/>
                    </a:lnTo>
                    <a:lnTo>
                      <a:pt x="14" y="72"/>
                    </a:lnTo>
                    <a:lnTo>
                      <a:pt x="12" y="70"/>
                    </a:lnTo>
                    <a:lnTo>
                      <a:pt x="10" y="70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91040" y="4294080"/>
                <a:ext cx="85680" cy="126000"/>
              </a:xfrm>
              <a:custGeom>
                <a:avLst/>
                <a:gdLst/>
                <a:ahLst/>
                <a:rect l="l" t="t" r="r" b="b"/>
                <a:pathLst>
                  <a:path w="62" h="88">
                    <a:moveTo>
                      <a:pt x="0" y="88"/>
                    </a:moveTo>
                    <a:lnTo>
                      <a:pt x="62" y="88"/>
                    </a:lnTo>
                    <a:lnTo>
                      <a:pt x="62" y="74"/>
                    </a:lnTo>
                    <a:lnTo>
                      <a:pt x="11" y="74"/>
                    </a:lnTo>
                    <a:lnTo>
                      <a:pt x="11" y="47"/>
                    </a:lnTo>
                    <a:lnTo>
                      <a:pt x="55" y="47"/>
                    </a:lnTo>
                    <a:lnTo>
                      <a:pt x="55" y="38"/>
                    </a:lnTo>
                    <a:lnTo>
                      <a:pt x="11" y="38"/>
                    </a:lnTo>
                    <a:lnTo>
                      <a:pt x="11" y="12"/>
                    </a:lnTo>
                    <a:lnTo>
                      <a:pt x="59" y="1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14520" y="4256640"/>
                <a:ext cx="95400" cy="1260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0" y="0"/>
                    </a:moveTo>
                    <a:lnTo>
                      <a:pt x="0" y="88"/>
                    </a:lnTo>
                    <a:lnTo>
                      <a:pt x="14" y="88"/>
                    </a:lnTo>
                    <a:lnTo>
                      <a:pt x="14" y="50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7" y="50"/>
                    </a:lnTo>
                    <a:lnTo>
                      <a:pt x="41" y="50"/>
                    </a:lnTo>
                    <a:lnTo>
                      <a:pt x="44" y="50"/>
                    </a:lnTo>
                    <a:lnTo>
                      <a:pt x="46" y="50"/>
                    </a:lnTo>
                    <a:lnTo>
                      <a:pt x="48" y="50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1" y="57"/>
                    </a:lnTo>
                    <a:lnTo>
                      <a:pt x="51" y="59"/>
                    </a:lnTo>
                    <a:lnTo>
                      <a:pt x="51" y="62"/>
                    </a:lnTo>
                    <a:lnTo>
                      <a:pt x="51" y="64"/>
                    </a:lnTo>
                    <a:lnTo>
                      <a:pt x="54" y="74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4" y="86"/>
                    </a:lnTo>
                    <a:lnTo>
                      <a:pt x="56" y="88"/>
                    </a:lnTo>
                    <a:lnTo>
                      <a:pt x="69" y="88"/>
                    </a:lnTo>
                    <a:lnTo>
                      <a:pt x="69" y="86"/>
                    </a:lnTo>
                    <a:lnTo>
                      <a:pt x="69" y="83"/>
                    </a:lnTo>
                    <a:lnTo>
                      <a:pt x="67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5" y="62"/>
                    </a:lnTo>
                    <a:lnTo>
                      <a:pt x="65" y="57"/>
                    </a:lnTo>
                    <a:lnTo>
                      <a:pt x="65" y="55"/>
                    </a:lnTo>
                    <a:lnTo>
                      <a:pt x="62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2" y="49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8" y="45"/>
                    </a:lnTo>
                    <a:lnTo>
                      <a:pt x="56" y="45"/>
                    </a:lnTo>
                    <a:lnTo>
                      <a:pt x="54" y="45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60" y="39"/>
                    </a:lnTo>
                    <a:lnTo>
                      <a:pt x="62" y="37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2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1" y="13"/>
                    </a:lnTo>
                    <a:lnTo>
                      <a:pt x="51" y="15"/>
                    </a:lnTo>
                    <a:lnTo>
                      <a:pt x="54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4" y="26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1" y="33"/>
                    </a:lnTo>
                    <a:lnTo>
                      <a:pt x="50" y="36"/>
                    </a:lnTo>
                    <a:lnTo>
                      <a:pt x="50" y="37"/>
                    </a:lnTo>
                    <a:lnTo>
                      <a:pt x="48" y="37"/>
                    </a:lnTo>
                    <a:lnTo>
                      <a:pt x="46" y="37"/>
                    </a:lnTo>
                    <a:lnTo>
                      <a:pt x="41" y="39"/>
                    </a:lnTo>
                    <a:lnTo>
                      <a:pt x="37" y="39"/>
                    </a:lnTo>
                    <a:lnTo>
                      <a:pt x="33" y="39"/>
                    </a:lnTo>
                    <a:lnTo>
                      <a:pt x="14" y="39"/>
                    </a:lnTo>
                    <a:lnTo>
                      <a:pt x="1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21440" y="4219200"/>
                <a:ext cx="109440" cy="12600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4" y="88"/>
                    </a:moveTo>
                    <a:lnTo>
                      <a:pt x="46" y="88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5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50680" y="4163400"/>
                <a:ext cx="90000" cy="12456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87"/>
                    </a:moveTo>
                    <a:lnTo>
                      <a:pt x="65" y="87"/>
                    </a:lnTo>
                    <a:lnTo>
                      <a:pt x="65" y="77"/>
                    </a:lnTo>
                    <a:lnTo>
                      <a:pt x="11" y="77"/>
                    </a:lnTo>
                    <a:lnTo>
                      <a:pt x="11" y="46"/>
                    </a:lnTo>
                    <a:lnTo>
                      <a:pt x="60" y="46"/>
                    </a:lnTo>
                    <a:lnTo>
                      <a:pt x="60" y="37"/>
                    </a:lnTo>
                    <a:lnTo>
                      <a:pt x="11" y="37"/>
                    </a:lnTo>
                    <a:lnTo>
                      <a:pt x="11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61720" y="2344680"/>
                <a:ext cx="1026000" cy="811080"/>
              </a:xfrm>
              <a:custGeom>
                <a:avLst/>
                <a:gdLst/>
                <a:ahLst/>
                <a:rect l="l" t="t" r="r" b="b"/>
                <a:pathLst>
                  <a:path w="739" h="566">
                    <a:moveTo>
                      <a:pt x="369" y="0"/>
                    </a:moveTo>
                    <a:lnTo>
                      <a:pt x="0" y="287"/>
                    </a:lnTo>
                    <a:lnTo>
                      <a:pt x="365" y="566"/>
                    </a:lnTo>
                    <a:lnTo>
                      <a:pt x="739" y="287"/>
                    </a:lnTo>
                    <a:lnTo>
                      <a:pt x="369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932560" y="2142720"/>
                <a:ext cx="356760" cy="421200"/>
              </a:xfrm>
              <a:custGeom>
                <a:avLst/>
                <a:gdLst/>
                <a:ahLst/>
                <a:rect l="l" t="t" r="r" b="b"/>
                <a:pathLst>
                  <a:path w="257" h="294">
                    <a:moveTo>
                      <a:pt x="51" y="0"/>
                    </a:moveTo>
                    <a:lnTo>
                      <a:pt x="0" y="72"/>
                    </a:lnTo>
                    <a:lnTo>
                      <a:pt x="178" y="294"/>
                    </a:lnTo>
                    <a:lnTo>
                      <a:pt x="257" y="23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932560" y="2142720"/>
                <a:ext cx="372240" cy="435240"/>
              </a:xfrm>
              <a:custGeom>
                <a:avLst/>
                <a:gdLst/>
                <a:ahLst/>
                <a:rect l="l" t="t" r="r" b="b"/>
                <a:pathLst>
                  <a:path w="268" h="304">
                    <a:moveTo>
                      <a:pt x="54" y="0"/>
                    </a:moveTo>
                    <a:lnTo>
                      <a:pt x="0" y="76"/>
                    </a:lnTo>
                    <a:lnTo>
                      <a:pt x="187" y="304"/>
                    </a:lnTo>
                    <a:lnTo>
                      <a:pt x="268" y="245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72640" y="1808640"/>
                <a:ext cx="563760" cy="808200"/>
              </a:xfrm>
              <a:custGeom>
                <a:avLst/>
                <a:gdLst/>
                <a:ahLst/>
                <a:rect l="l" t="t" r="r" b="b"/>
                <a:pathLst>
                  <a:path w="406" h="564">
                    <a:moveTo>
                      <a:pt x="176" y="564"/>
                    </a:moveTo>
                    <a:lnTo>
                      <a:pt x="219" y="505"/>
                    </a:lnTo>
                    <a:lnTo>
                      <a:pt x="259" y="462"/>
                    </a:lnTo>
                    <a:lnTo>
                      <a:pt x="294" y="416"/>
                    </a:lnTo>
                    <a:lnTo>
                      <a:pt x="319" y="374"/>
                    </a:lnTo>
                    <a:lnTo>
                      <a:pt x="357" y="290"/>
                    </a:lnTo>
                    <a:lnTo>
                      <a:pt x="376" y="228"/>
                    </a:lnTo>
                    <a:lnTo>
                      <a:pt x="395" y="161"/>
                    </a:lnTo>
                    <a:lnTo>
                      <a:pt x="403" y="91"/>
                    </a:lnTo>
                    <a:lnTo>
                      <a:pt x="406" y="24"/>
                    </a:lnTo>
                    <a:lnTo>
                      <a:pt x="406" y="11"/>
                    </a:lnTo>
                    <a:lnTo>
                      <a:pt x="399" y="0"/>
                    </a:lnTo>
                    <a:lnTo>
                      <a:pt x="315" y="72"/>
                    </a:lnTo>
                    <a:lnTo>
                      <a:pt x="234" y="148"/>
                    </a:lnTo>
                    <a:lnTo>
                      <a:pt x="155" y="233"/>
                    </a:lnTo>
                    <a:lnTo>
                      <a:pt x="80" y="321"/>
                    </a:lnTo>
                    <a:lnTo>
                      <a:pt x="0" y="429"/>
                    </a:lnTo>
                    <a:lnTo>
                      <a:pt x="176" y="5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72640" y="1808640"/>
                <a:ext cx="573480" cy="824040"/>
              </a:xfrm>
              <a:custGeom>
                <a:avLst/>
                <a:gdLst/>
                <a:ahLst/>
                <a:rect l="l" t="t" r="r" b="b"/>
                <a:pathLst>
                  <a:path w="413" h="575">
                    <a:moveTo>
                      <a:pt x="180" y="575"/>
                    </a:moveTo>
                    <a:lnTo>
                      <a:pt x="222" y="513"/>
                    </a:lnTo>
                    <a:lnTo>
                      <a:pt x="262" y="470"/>
                    </a:lnTo>
                    <a:lnTo>
                      <a:pt x="299" y="424"/>
                    </a:lnTo>
                    <a:lnTo>
                      <a:pt x="327" y="381"/>
                    </a:lnTo>
                    <a:lnTo>
                      <a:pt x="365" y="294"/>
                    </a:lnTo>
                    <a:lnTo>
                      <a:pt x="384" y="233"/>
                    </a:lnTo>
                    <a:lnTo>
                      <a:pt x="403" y="163"/>
                    </a:lnTo>
                    <a:lnTo>
                      <a:pt x="411" y="94"/>
                    </a:lnTo>
                    <a:lnTo>
                      <a:pt x="413" y="26"/>
                    </a:lnTo>
                    <a:lnTo>
                      <a:pt x="413" y="11"/>
                    </a:lnTo>
                    <a:lnTo>
                      <a:pt x="407" y="0"/>
                    </a:lnTo>
                    <a:lnTo>
                      <a:pt x="320" y="74"/>
                    </a:lnTo>
                    <a:lnTo>
                      <a:pt x="237" y="151"/>
                    </a:lnTo>
                    <a:lnTo>
                      <a:pt x="157" y="237"/>
                    </a:lnTo>
                    <a:lnTo>
                      <a:pt x="83" y="326"/>
                    </a:lnTo>
                    <a:lnTo>
                      <a:pt x="0" y="438"/>
                    </a:lnTo>
                    <a:lnTo>
                      <a:pt x="180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15840" y="2972520"/>
                <a:ext cx="705240" cy="806760"/>
              </a:xfrm>
              <a:custGeom>
                <a:avLst/>
                <a:gdLst/>
                <a:ahLst/>
                <a:rect l="l" t="t" r="r" b="b"/>
                <a:pathLst>
                  <a:path w="508" h="563">
                    <a:moveTo>
                      <a:pt x="77" y="0"/>
                    </a:moveTo>
                    <a:lnTo>
                      <a:pt x="0" y="56"/>
                    </a:lnTo>
                    <a:lnTo>
                      <a:pt x="397" y="506"/>
                    </a:lnTo>
                    <a:lnTo>
                      <a:pt x="419" y="530"/>
                    </a:lnTo>
                    <a:lnTo>
                      <a:pt x="446" y="546"/>
                    </a:lnTo>
                    <a:lnTo>
                      <a:pt x="478" y="559"/>
                    </a:lnTo>
                    <a:lnTo>
                      <a:pt x="493" y="563"/>
                    </a:lnTo>
                    <a:lnTo>
                      <a:pt x="499" y="563"/>
                    </a:lnTo>
                    <a:lnTo>
                      <a:pt x="508" y="559"/>
                    </a:lnTo>
                    <a:lnTo>
                      <a:pt x="508" y="550"/>
                    </a:lnTo>
                    <a:lnTo>
                      <a:pt x="508" y="537"/>
                    </a:lnTo>
                    <a:lnTo>
                      <a:pt x="508" y="522"/>
                    </a:lnTo>
                    <a:lnTo>
                      <a:pt x="499" y="494"/>
                    </a:lnTo>
                    <a:lnTo>
                      <a:pt x="485" y="468"/>
                    </a:lnTo>
                    <a:lnTo>
                      <a:pt x="463" y="44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15840" y="2972520"/>
                <a:ext cx="717480" cy="823680"/>
              </a:xfrm>
              <a:custGeom>
                <a:avLst/>
                <a:gdLst/>
                <a:ahLst/>
                <a:rect l="l" t="t" r="r" b="b"/>
                <a:pathLst>
                  <a:path w="517" h="575">
                    <a:moveTo>
                      <a:pt x="77" y="0"/>
                    </a:moveTo>
                    <a:lnTo>
                      <a:pt x="0" y="57"/>
                    </a:lnTo>
                    <a:lnTo>
                      <a:pt x="403" y="515"/>
                    </a:lnTo>
                    <a:lnTo>
                      <a:pt x="427" y="542"/>
                    </a:lnTo>
                    <a:lnTo>
                      <a:pt x="454" y="558"/>
                    </a:lnTo>
                    <a:lnTo>
                      <a:pt x="484" y="570"/>
                    </a:lnTo>
                    <a:lnTo>
                      <a:pt x="501" y="575"/>
                    </a:lnTo>
                    <a:lnTo>
                      <a:pt x="508" y="575"/>
                    </a:lnTo>
                    <a:lnTo>
                      <a:pt x="517" y="570"/>
                    </a:lnTo>
                    <a:lnTo>
                      <a:pt x="517" y="562"/>
                    </a:lnTo>
                    <a:lnTo>
                      <a:pt x="517" y="548"/>
                    </a:lnTo>
                    <a:lnTo>
                      <a:pt x="517" y="534"/>
                    </a:lnTo>
                    <a:lnTo>
                      <a:pt x="508" y="505"/>
                    </a:lnTo>
                    <a:lnTo>
                      <a:pt x="491" y="477"/>
                    </a:lnTo>
                    <a:lnTo>
                      <a:pt x="470" y="450"/>
                    </a:lnTo>
                    <a:lnTo>
                      <a:pt x="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46440" y="2956680"/>
                <a:ext cx="648360" cy="891360"/>
              </a:xfrm>
              <a:custGeom>
                <a:avLst/>
                <a:gdLst/>
                <a:ahLst/>
                <a:rect l="l" t="t" r="r" b="b"/>
                <a:pathLst>
                  <a:path w="467" h="622">
                    <a:moveTo>
                      <a:pt x="324" y="0"/>
                    </a:moveTo>
                    <a:lnTo>
                      <a:pt x="256" y="86"/>
                    </a:lnTo>
                    <a:lnTo>
                      <a:pt x="203" y="152"/>
                    </a:lnTo>
                    <a:lnTo>
                      <a:pt x="156" y="224"/>
                    </a:lnTo>
                    <a:lnTo>
                      <a:pt x="114" y="300"/>
                    </a:lnTo>
                    <a:lnTo>
                      <a:pt x="74" y="378"/>
                    </a:lnTo>
                    <a:lnTo>
                      <a:pt x="44" y="464"/>
                    </a:lnTo>
                    <a:lnTo>
                      <a:pt x="19" y="550"/>
                    </a:lnTo>
                    <a:lnTo>
                      <a:pt x="0" y="622"/>
                    </a:lnTo>
                    <a:lnTo>
                      <a:pt x="6" y="605"/>
                    </a:lnTo>
                    <a:lnTo>
                      <a:pt x="19" y="570"/>
                    </a:lnTo>
                    <a:lnTo>
                      <a:pt x="40" y="541"/>
                    </a:lnTo>
                    <a:lnTo>
                      <a:pt x="61" y="517"/>
                    </a:lnTo>
                    <a:lnTo>
                      <a:pt x="89" y="505"/>
                    </a:lnTo>
                    <a:lnTo>
                      <a:pt x="121" y="493"/>
                    </a:lnTo>
                    <a:lnTo>
                      <a:pt x="121" y="464"/>
                    </a:lnTo>
                    <a:lnTo>
                      <a:pt x="131" y="417"/>
                    </a:lnTo>
                    <a:lnTo>
                      <a:pt x="146" y="376"/>
                    </a:lnTo>
                    <a:lnTo>
                      <a:pt x="165" y="337"/>
                    </a:lnTo>
                    <a:lnTo>
                      <a:pt x="179" y="326"/>
                    </a:lnTo>
                    <a:lnTo>
                      <a:pt x="191" y="324"/>
                    </a:lnTo>
                    <a:lnTo>
                      <a:pt x="205" y="335"/>
                    </a:lnTo>
                    <a:lnTo>
                      <a:pt x="216" y="344"/>
                    </a:lnTo>
                    <a:lnTo>
                      <a:pt x="216" y="337"/>
                    </a:lnTo>
                    <a:lnTo>
                      <a:pt x="212" y="315"/>
                    </a:lnTo>
                    <a:lnTo>
                      <a:pt x="216" y="292"/>
                    </a:lnTo>
                    <a:lnTo>
                      <a:pt x="229" y="272"/>
                    </a:lnTo>
                    <a:lnTo>
                      <a:pt x="244" y="263"/>
                    </a:lnTo>
                    <a:lnTo>
                      <a:pt x="263" y="239"/>
                    </a:lnTo>
                    <a:lnTo>
                      <a:pt x="289" y="226"/>
                    </a:lnTo>
                    <a:lnTo>
                      <a:pt x="312" y="220"/>
                    </a:lnTo>
                    <a:lnTo>
                      <a:pt x="342" y="222"/>
                    </a:lnTo>
                    <a:lnTo>
                      <a:pt x="367" y="232"/>
                    </a:lnTo>
                    <a:lnTo>
                      <a:pt x="380" y="213"/>
                    </a:lnTo>
                    <a:lnTo>
                      <a:pt x="467" y="108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46440" y="2956680"/>
                <a:ext cx="663840" cy="908640"/>
              </a:xfrm>
              <a:custGeom>
                <a:avLst/>
                <a:gdLst/>
                <a:ahLst/>
                <a:rect l="l" t="t" r="r" b="b"/>
                <a:pathLst>
                  <a:path w="478" h="634">
                    <a:moveTo>
                      <a:pt x="331" y="0"/>
                    </a:moveTo>
                    <a:lnTo>
                      <a:pt x="263" y="90"/>
                    </a:lnTo>
                    <a:lnTo>
                      <a:pt x="210" y="157"/>
                    </a:lnTo>
                    <a:lnTo>
                      <a:pt x="161" y="229"/>
                    </a:lnTo>
                    <a:lnTo>
                      <a:pt x="116" y="308"/>
                    </a:lnTo>
                    <a:lnTo>
                      <a:pt x="76" y="385"/>
                    </a:lnTo>
                    <a:lnTo>
                      <a:pt x="46" y="471"/>
                    </a:lnTo>
                    <a:lnTo>
                      <a:pt x="19" y="560"/>
                    </a:lnTo>
                    <a:lnTo>
                      <a:pt x="0" y="634"/>
                    </a:lnTo>
                    <a:lnTo>
                      <a:pt x="6" y="617"/>
                    </a:lnTo>
                    <a:lnTo>
                      <a:pt x="19" y="579"/>
                    </a:lnTo>
                    <a:lnTo>
                      <a:pt x="40" y="550"/>
                    </a:lnTo>
                    <a:lnTo>
                      <a:pt x="63" y="529"/>
                    </a:lnTo>
                    <a:lnTo>
                      <a:pt x="91" y="514"/>
                    </a:lnTo>
                    <a:lnTo>
                      <a:pt x="123" y="503"/>
                    </a:lnTo>
                    <a:lnTo>
                      <a:pt x="125" y="473"/>
                    </a:lnTo>
                    <a:lnTo>
                      <a:pt x="133" y="427"/>
                    </a:lnTo>
                    <a:lnTo>
                      <a:pt x="149" y="383"/>
                    </a:lnTo>
                    <a:lnTo>
                      <a:pt x="168" y="344"/>
                    </a:lnTo>
                    <a:lnTo>
                      <a:pt x="170" y="344"/>
                    </a:lnTo>
                    <a:lnTo>
                      <a:pt x="182" y="331"/>
                    </a:lnTo>
                    <a:lnTo>
                      <a:pt x="195" y="331"/>
                    </a:lnTo>
                    <a:lnTo>
                      <a:pt x="210" y="340"/>
                    </a:lnTo>
                    <a:lnTo>
                      <a:pt x="221" y="351"/>
                    </a:lnTo>
                    <a:lnTo>
                      <a:pt x="221" y="344"/>
                    </a:lnTo>
                    <a:lnTo>
                      <a:pt x="216" y="322"/>
                    </a:lnTo>
                    <a:lnTo>
                      <a:pt x="221" y="296"/>
                    </a:lnTo>
                    <a:lnTo>
                      <a:pt x="233" y="277"/>
                    </a:lnTo>
                    <a:lnTo>
                      <a:pt x="249" y="268"/>
                    </a:lnTo>
                    <a:lnTo>
                      <a:pt x="270" y="244"/>
                    </a:lnTo>
                    <a:lnTo>
                      <a:pt x="295" y="231"/>
                    </a:lnTo>
                    <a:lnTo>
                      <a:pt x="319" y="224"/>
                    </a:lnTo>
                    <a:lnTo>
                      <a:pt x="350" y="227"/>
                    </a:lnTo>
                    <a:lnTo>
                      <a:pt x="373" y="238"/>
                    </a:lnTo>
                    <a:lnTo>
                      <a:pt x="389" y="218"/>
                    </a:lnTo>
                    <a:lnTo>
                      <a:pt x="478" y="111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961720" y="2738880"/>
                <a:ext cx="1026000" cy="35640"/>
                <a:chOff x="2961720" y="2738880"/>
                <a:chExt cx="1026000" cy="356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961720" y="2738880"/>
                  <a:ext cx="1026000" cy="3564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961720" y="2738880"/>
                  <a:ext cx="1026000" cy="3564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465720" y="2347560"/>
                <a:ext cx="18000" cy="813960"/>
                <a:chOff x="3465720" y="2347560"/>
                <a:chExt cx="18000" cy="813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465720" y="2347560"/>
                  <a:ext cx="18000" cy="81396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65720" y="2347560"/>
                  <a:ext cx="18000" cy="81396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484080" y="2360520"/>
                <a:ext cx="480240" cy="378000"/>
                <a:chOff x="3484080" y="2360520"/>
                <a:chExt cx="480240" cy="3780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484080" y="2360520"/>
                  <a:ext cx="480240" cy="3780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484080" y="2360520"/>
                  <a:ext cx="480240" cy="3780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985480" y="2360520"/>
                <a:ext cx="481680" cy="378000"/>
                <a:chOff x="2985480" y="2360520"/>
                <a:chExt cx="481680" cy="3780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985480" y="2360520"/>
                  <a:ext cx="48168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985480" y="2360520"/>
                  <a:ext cx="48168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985480" y="2774520"/>
                <a:ext cx="481680" cy="378000"/>
                <a:chOff x="2985480" y="2774520"/>
                <a:chExt cx="481680" cy="378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985480" y="2774520"/>
                  <a:ext cx="48168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85480" y="2774520"/>
                  <a:ext cx="48168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484080" y="2774520"/>
                <a:ext cx="474840" cy="378000"/>
                <a:chOff x="3484080" y="2774520"/>
                <a:chExt cx="474840" cy="378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484080" y="2774520"/>
                  <a:ext cx="474840" cy="37800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484080" y="2774520"/>
                  <a:ext cx="474840" cy="37800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3133800" y="2458080"/>
                <a:ext cx="313920" cy="2894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243600" y="2538360"/>
                <a:ext cx="206640" cy="211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354840" y="2638440"/>
                <a:ext cx="92880" cy="11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447720" y="2703960"/>
                <a:ext cx="1080" cy="45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472200" y="2447640"/>
                <a:ext cx="362520" cy="294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472560" y="2535120"/>
                <a:ext cx="249840" cy="212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472560" y="2635920"/>
                <a:ext cx="143280" cy="11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472200" y="2701440"/>
                <a:ext cx="42840" cy="46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74360" y="2790360"/>
                <a:ext cx="363600" cy="2433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74000" y="2790360"/>
                <a:ext cx="261000" cy="161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474360" y="2790360"/>
                <a:ext cx="144000" cy="6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474000" y="2777400"/>
                <a:ext cx="47160" cy="9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33800" y="2790360"/>
                <a:ext cx="313920" cy="2433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43600" y="2790360"/>
                <a:ext cx="206640" cy="161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54840" y="2790360"/>
                <a:ext cx="92880" cy="6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47720" y="2777400"/>
                <a:ext cx="1080" cy="1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714920" y="4566240"/>
              <a:ext cx="885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14920" y="4575240"/>
              <a:ext cx="874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14920" y="45835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868400" y="496800"/>
            <a:ext cx="31449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49400" y="550800"/>
            <a:ext cx="3110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49400" y="561960"/>
            <a:ext cx="310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51920" y="573120"/>
            <a:ext cx="319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8480" y="879480"/>
            <a:ext cx="2530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8480" y="890640"/>
            <a:ext cx="2530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1000" y="90180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7960" y="4830840"/>
            <a:ext cx="375444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9840" y="4884840"/>
            <a:ext cx="458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9840" y="4894200"/>
            <a:ext cx="598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2720" y="4902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9880" y="4890960"/>
            <a:ext cx="417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1640" y="4898880"/>
            <a:ext cx="397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.S. ARMY SOLDIER SUPPORT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82680" y="5213520"/>
            <a:ext cx="32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71440" y="5869080"/>
            <a:ext cx="4767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4400" y="5878440"/>
            <a:ext cx="152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24400" y="5886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71440" y="6126120"/>
            <a:ext cx="4862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1440" y="613404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0560" y="6375240"/>
            <a:ext cx="274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30560" y="638316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74960" y="6118200"/>
            <a:ext cx="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6280" y="6365880"/>
            <a:ext cx="3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7280" y="6858000"/>
            <a:ext cx="2419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57280" y="6862680"/>
            <a:ext cx="2494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2120" y="5265720"/>
            <a:ext cx="511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14760" y="5265720"/>
            <a:ext cx="4874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2480" y="5516640"/>
            <a:ext cx="3081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2480" y="7601040"/>
            <a:ext cx="1601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4840" y="7601040"/>
            <a:ext cx="1268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4960" y="8408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UG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62400" y="5688000"/>
            <a:ext cx="164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8200" y="5472000"/>
            <a:ext cx="578160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ANSWER BOOK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Rounded MT Bold"/>
              </a:rPr>
              <a:t>BASIC AND SPECIAL P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008000" y="623880"/>
          <a:ext cx="4773600" cy="50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623880"/>
                    <a:ext cx="47736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331080" y="8702640"/>
            <a:ext cx="19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936720" y="831960"/>
          <a:ext cx="4986360" cy="64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831960"/>
                    <a:ext cx="4986360" cy="64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936720" y="716040"/>
          <a:ext cx="490680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716040"/>
                    <a:ext cx="4906800" cy="67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76400" y="345960"/>
            <a:ext cx="481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ER TO QUESTION # 10, AND COMPLETE THE INPUT SCREE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75120" y="554040"/>
            <a:ext cx="353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 SM’s UNIT IS 1/51ST FA FORT STEWART, 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44280" y="831960"/>
            <a:ext cx="942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BLEM 11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3680" y="1427040"/>
            <a:ext cx="79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46120" y="1206360"/>
          <a:ext cx="5867280" cy="346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206360"/>
                    <a:ext cx="58672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04800" y="3672000"/>
            <a:ext cx="56484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03200" y="-208080"/>
            <a:ext cx="6504120" cy="890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680" y="8453520"/>
            <a:ext cx="757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9560" y="-173160"/>
            <a:ext cx="146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0560" y="816120"/>
            <a:ext cx="5792760" cy="726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46320" y="985680"/>
            <a:ext cx="28875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2000" y="1036800"/>
            <a:ext cx="195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75480" y="1190520"/>
            <a:ext cx="3009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9920" y="1360440"/>
            <a:ext cx="230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EORGI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31760" y="1855800"/>
            <a:ext cx="55692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80280" y="1751040"/>
            <a:ext cx="541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S 2-9                                                                                 17 SEPTEMBER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79920" y="2230560"/>
            <a:ext cx="4767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THUR, BEA  SFC  888-77-6666,  1/50TH FA ,  F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86760" y="2554200"/>
            <a:ext cx="490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86480" y="2878200"/>
            <a:ext cx="1456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TERMIN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83240" y="3032280"/>
            <a:ext cx="144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ITY:  DODP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80720" y="3201840"/>
            <a:ext cx="1174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 DUTY:  SD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77120" y="3355920"/>
            <a:ext cx="179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PAY CODE: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29960" y="3525840"/>
            <a:ext cx="358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AL QUALIFICATION IDENTIFIER AWARDED:  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73520" y="3679920"/>
            <a:ext cx="2660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IVE DATE:  15 SEPTEMBER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7240" y="3849840"/>
            <a:ext cx="2730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ADDITIONAL PAY TERMINATE:  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5600" y="4003560"/>
            <a:ext cx="2241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TIONAL INSTRUCTIONS:  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93320" y="4173480"/>
            <a:ext cx="1023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:  302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8920" y="4498920"/>
            <a:ext cx="166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COMMANDER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10160" y="5146560"/>
            <a:ext cx="2932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8720" y="5113440"/>
            <a:ext cx="148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CHARLES N.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66960" y="5334120"/>
            <a:ext cx="4408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RLES N. CHAR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5400" y="5486400"/>
            <a:ext cx="349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T,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76680" y="5657760"/>
            <a:ext cx="4065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T ADJUT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8720" y="5981760"/>
            <a:ext cx="1027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97640" y="6135840"/>
            <a:ext cx="101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MIN SPT  (3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3480" y="6288120"/>
            <a:ext cx="51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O (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14200" y="645948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DR (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10240" y="6611760"/>
            <a:ext cx="58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IV (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320" y="7261200"/>
            <a:ext cx="1625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4560" y="287280"/>
            <a:ext cx="1309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# 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6960" y="8680320"/>
            <a:ext cx="242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619560" y="789120"/>
            <a:ext cx="4684680" cy="3350880"/>
            <a:chOff x="619560" y="789120"/>
            <a:chExt cx="4684680" cy="3350880"/>
          </a:xfrm>
        </p:grpSpPr>
        <p:sp>
          <p:nvSpPr>
            <p:cNvPr id="233" name=""/>
            <p:cNvSpPr/>
            <p:nvPr/>
          </p:nvSpPr>
          <p:spPr>
            <a:xfrm>
              <a:off x="619560" y="789120"/>
              <a:ext cx="221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MPLETE THE INPUT SCREE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360" y="954720"/>
              <a:ext cx="157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TE:  SM UNIT IS 1/5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1080" y="939240"/>
              <a:ext cx="98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34160" y="954720"/>
              <a:ext cx="166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A FORT STEWART, G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3320" y="1288440"/>
              <a:ext cx="942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LEM 12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0600" y="128844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26400" y="162036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2400" y="195228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23320" y="195228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84560" y="211824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56000" y="228564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03880" y="228564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10320" y="245160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8320" y="261756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0840" y="278352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7600" y="294948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20880" y="3115800"/>
              <a:ext cx="36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13240" y="3115800"/>
              <a:ext cx="36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5760" y="328176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9160" y="3448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06120" y="344880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11160" y="361476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3360" y="361476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15760" y="3780720"/>
              <a:ext cx="3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39400" y="3947040"/>
              <a:ext cx="36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44600" y="1511280"/>
          <a:ext cx="60451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511280"/>
                    <a:ext cx="6045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874800" y="4572000"/>
            <a:ext cx="5352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08:39:18Z</dcterms:created>
  <dc:creator>Soldier Support Institute</dc:creator>
  <dc:description/>
  <dc:language>en-US</dc:language>
  <cp:lastModifiedBy>Administrator</cp:lastModifiedBy>
  <cp:lastPrinted>2002-02-11T19:56:43Z</cp:lastPrinted>
  <dcterms:modified xsi:type="dcterms:W3CDTF">2005-03-22T13:01:00Z</dcterms:modified>
  <cp:revision>51</cp:revision>
  <dc:subject>PE-PAY AND ALLOWANCES</dc:subject>
  <dc:title>COVERSHEET</dc:title>
</cp:coreProperties>
</file>